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0C2-F2FE-470B-9E7F-B89926F9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03E-7AC5-46B1-BE7C-95E921B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4C2-6A09-4CC1-8637-1550C430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49F-92B5-4D62-9174-5CCEF773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D22-9736-457E-96DF-924C75E1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011-3DDC-4675-A637-DE49CE3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D8A4-0E7A-4D97-BB97-F773857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9BC-93B4-42D9-A391-314A8635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8E3-D1BE-4CE4-B0FF-66CCD85E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A420-7766-486E-84F1-2E832B9A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C3A0-4955-4F79-8B71-9D20E26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497-3156-4491-977B-BCA09EC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3566-0BD6-4DFB-8445-AA9589B8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2087-F929-4FEF-9AA7-9798DDE4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C6F-96C0-4974-BD1C-BBD8397B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DA2D-913A-45E5-BA4F-ABEB5A4C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43D-685F-497E-AC3B-9B476C20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768-9C43-4DCB-B051-8FBDB95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82F-C860-41FB-A7FD-6A33E28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AA4-5B0F-46AE-9957-698BAA88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229-BFC6-4EC0-803C-1730BC76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8FE-6C70-4D44-BD1E-31A698D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260-CBAC-49A4-92C9-7ECA8EF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917-902C-47AB-AF4E-C03EC10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7D3-AEDA-47C7-819C-894CBEE8FA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67F2-166B-487D-BEE3-02C9B1241E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ecture.eingang.org/pascaline.html" TargetMode="External"/><Relationship Id="rId2" Type="http://schemas.openxmlformats.org/officeDocument/2006/relationships/hyperlink" Target="http://www.thocp.net/hardware/pascaline.htm" TargetMode="External"/><Relationship Id="rId3" Type="http://schemas.openxmlformats.org/officeDocument/2006/relationships/hyperlink" Target="http://www.computermuseum.li/Testpage/Pascaline-Calculator-1642.htm" TargetMode="External"/><Relationship Id="rId4" Type="http://schemas.openxmlformats.org/officeDocument/2006/relationships/hyperlink" Target="http://www.britannica.com/EBchecked/topic/725527/Pascalin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scalin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W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he First Mechcanical Calculator:"/>
          <p:cNvPicPr/>
          <p:nvPr/>
        </p:nvPicPr>
        <p:blipFill>
          <a:blip r:embed="rId1"/>
          <a:stretch/>
        </p:blipFill>
        <p:spPr>
          <a:xfrm>
            <a:off x="152280" y="3048120"/>
            <a:ext cx="47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3351240" cy="2131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95680" y="2387520"/>
            <a:ext cx="4038840" cy="204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572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ascaline can be found in a museum in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6483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ine as show by Encyclopedia Britan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caline: Created B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aise Pascal (1623-1662) of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bout 1642, Pascal developed a calculator called the Arithmatique or Pascal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cal's interest in calculating was thought to come from a desire to help his father with his job as Superintendent of Tax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caline: Purpo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f the worlds first adding mach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s a machine to calculate with 8 figures and carrying of 10's , 100's, and 1000's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cal's device used a series of toothed wheels, which were turned by hand and which could handle numbers up to 999,999.99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do only addition or subtr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red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lecture.eingang.org/pascalin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thocp.net/hardware/pascalin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omputermuseum.li/Testpage/Pascaline-Calculator-164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ww.britannica.com/EBchecked/topic/725527/Pasc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7:57:04Z</dcterms:created>
  <dc:creator>wiesel</dc:creator>
  <dc:description/>
  <dc:language>en-US</dc:language>
  <cp:lastModifiedBy>wiesel</cp:lastModifiedBy>
  <dcterms:modified xsi:type="dcterms:W3CDTF">2010-08-24T18:46:00Z</dcterms:modified>
  <cp:revision>6</cp:revision>
  <dc:subject/>
  <dc:title>Slide 1</dc:title>
</cp:coreProperties>
</file>